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610-08E1-4449-B78E-124B34FD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4DB-D2C5-4E3C-A7E3-4DC5EF24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F50-53AB-4440-ABBC-96B8697D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5C2-AE09-4E91-B7C2-1867009A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384-F133-42EF-9348-89A573AC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335-181F-428B-BA11-A6B9257E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424-D2B5-4518-8AF8-108DA3A2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848-FBE2-4159-8C72-4829CB26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7FE-ED42-40A5-A31A-F4D9E638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7EA-5D94-4673-AADC-67FACD1F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37A-5AAA-48BD-8071-3D787BD9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F2B-F421-4DD9-A975-03EA63E8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7E97-974F-4BF3-9E2F-9D76299850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50D5-E5DF-43B8-BF96-6219F1A79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2ACD-747C-4E93-B39F-C4F7F72F3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Criteria for Research Activitie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8DCA-DE9E-4255-80D8-919EDE5A2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Framework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905120" y="1488960"/>
            <a:ext cx="71085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4"/>
          <p:cNvGrpSpPr/>
          <p:nvPr/>
        </p:nvGrpSpPr>
        <p:grpSpPr>
          <a:xfrm>
            <a:off x="2495520" y="1504080"/>
            <a:ext cx="5202360" cy="5154480"/>
            <a:chOff x="2495520" y="1504080"/>
            <a:chExt cx="5202360" cy="5154480"/>
          </a:xfrm>
        </p:grpSpPr>
        <p:grpSp>
          <p:nvGrpSpPr>
            <p:cNvPr id="52" name="Group 46"/>
            <p:cNvGrpSpPr/>
            <p:nvPr/>
          </p:nvGrpSpPr>
          <p:grpSpPr>
            <a:xfrm>
              <a:off x="2495520" y="1504080"/>
              <a:ext cx="5202360" cy="5154480"/>
              <a:chOff x="2495520" y="1504080"/>
              <a:chExt cx="5202360" cy="5154480"/>
            </a:xfrm>
          </p:grpSpPr>
          <p:sp>
            <p:nvSpPr>
              <p:cNvPr id="53" name="Oval 67"/>
              <p:cNvSpPr/>
              <p:nvPr/>
            </p:nvSpPr>
            <p:spPr>
              <a:xfrm>
                <a:off x="2675520" y="1697760"/>
                <a:ext cx="4824720" cy="4751640"/>
              </a:xfrm>
              <a:prstGeom prst="ellipse">
                <a:avLst/>
              </a:prstGeom>
              <a:solidFill>
                <a:srgbClr val="8eb4e3"/>
              </a:solidFill>
              <a:ln w="10800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Isosceles Triangle 68"/>
              <p:cNvSpPr/>
              <p:nvPr/>
            </p:nvSpPr>
            <p:spPr>
              <a:xfrm>
                <a:off x="2495520" y="388548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Isosceles Triangle 69"/>
              <p:cNvSpPr/>
              <p:nvPr/>
            </p:nvSpPr>
            <p:spPr>
              <a:xfrm rot="2239800">
                <a:off x="3177360" y="223200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Isosceles Triangle 70"/>
              <p:cNvSpPr/>
              <p:nvPr/>
            </p:nvSpPr>
            <p:spPr>
              <a:xfrm rot="5659200">
                <a:off x="5014800" y="15094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Isosceles Triangle 71"/>
              <p:cNvSpPr/>
              <p:nvPr/>
            </p:nvSpPr>
            <p:spPr>
              <a:xfrm rot="12623400">
                <a:off x="7040880" y="511164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Isosceles Triangle 72"/>
              <p:cNvSpPr/>
              <p:nvPr/>
            </p:nvSpPr>
            <p:spPr>
              <a:xfrm rot="7923600">
                <a:off x="6603840" y="22809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Isosceles Triangle 73"/>
              <p:cNvSpPr/>
              <p:nvPr/>
            </p:nvSpPr>
            <p:spPr>
              <a:xfrm rot="18501600">
                <a:off x="3243240" y="553824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Isosceles Triangle 74"/>
              <p:cNvSpPr/>
              <p:nvPr/>
            </p:nvSpPr>
            <p:spPr>
              <a:xfrm rot="13861800">
                <a:off x="6027120" y="60022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Isosceles Triangle 75"/>
              <p:cNvSpPr/>
              <p:nvPr/>
            </p:nvSpPr>
            <p:spPr>
              <a:xfrm rot="16801200">
                <a:off x="4813560" y="62607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Isosceles Triangle 76"/>
              <p:cNvSpPr/>
              <p:nvPr/>
            </p:nvSpPr>
            <p:spPr>
              <a:xfrm rot="10461600">
                <a:off x="7320240" y="386856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Box 47"/>
            <p:cNvSpPr/>
            <p:nvPr/>
          </p:nvSpPr>
          <p:spPr>
            <a:xfrm rot="15177000">
              <a:off x="2502720" y="4564440"/>
              <a:ext cx="116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ite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Box 48"/>
            <p:cNvSpPr/>
            <p:nvPr/>
          </p:nvSpPr>
          <p:spPr>
            <a:xfrm rot="15543000">
              <a:off x="2585520" y="4058640"/>
              <a:ext cx="15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racter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Box 49"/>
            <p:cNvSpPr/>
            <p:nvPr/>
          </p:nvSpPr>
          <p:spPr>
            <a:xfrm rot="17272200">
              <a:off x="2542680" y="3156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yp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50"/>
            <p:cNvSpPr/>
            <p:nvPr/>
          </p:nvSpPr>
          <p:spPr>
            <a:xfrm rot="18132000">
              <a:off x="3078000" y="2994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blem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Box 51"/>
            <p:cNvSpPr/>
            <p:nvPr/>
          </p:nvSpPr>
          <p:spPr>
            <a:xfrm rot="19540200">
              <a:off x="3204720" y="2265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Box 52"/>
            <p:cNvSpPr/>
            <p:nvPr/>
          </p:nvSpPr>
          <p:spPr>
            <a:xfrm rot="20122800">
              <a:off x="3802680" y="23619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ry poi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Box 53"/>
            <p:cNvSpPr/>
            <p:nvPr/>
          </p:nvSpPr>
          <p:spPr>
            <a:xfrm rot="217200">
              <a:off x="4754520" y="210708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earch te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Box 54"/>
            <p:cNvSpPr/>
            <p:nvPr/>
          </p:nvSpPr>
          <p:spPr>
            <a:xfrm rot="907200">
              <a:off x="5308560" y="1891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Box 55"/>
            <p:cNvSpPr/>
            <p:nvPr/>
          </p:nvSpPr>
          <p:spPr>
            <a:xfrm rot="1968600">
              <a:off x="5461560" y="2403360"/>
              <a:ext cx="131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rticipatory 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Box 56"/>
            <p:cNvSpPr/>
            <p:nvPr/>
          </p:nvSpPr>
          <p:spPr>
            <a:xfrm rot="3493800">
              <a:off x="6318720" y="2859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dap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Box 57"/>
            <p:cNvSpPr/>
            <p:nvPr/>
          </p:nvSpPr>
          <p:spPr>
            <a:xfrm rot="4278000">
              <a:off x="6037560" y="343548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Box 58"/>
            <p:cNvSpPr/>
            <p:nvPr/>
          </p:nvSpPr>
          <p:spPr>
            <a:xfrm rot="4933800">
              <a:off x="6459840" y="349992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arm-level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59"/>
            <p:cNvSpPr/>
            <p:nvPr/>
          </p:nvSpPr>
          <p:spPr>
            <a:xfrm rot="6523200">
              <a:off x="6014880" y="436104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ustainability / resili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Box 60"/>
            <p:cNvSpPr/>
            <p:nvPr/>
          </p:nvSpPr>
          <p:spPr>
            <a:xfrm rot="6772200">
              <a:off x="6442920" y="458064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S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Box 61"/>
            <p:cNvSpPr/>
            <p:nvPr/>
          </p:nvSpPr>
          <p:spPr>
            <a:xfrm rot="8275200">
              <a:off x="5904720" y="5430240"/>
              <a:ext cx="126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eta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62"/>
            <p:cNvSpPr/>
            <p:nvPr/>
          </p:nvSpPr>
          <p:spPr>
            <a:xfrm rot="9102000">
              <a:off x="5336640" y="52099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orecast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Box 63"/>
            <p:cNvSpPr/>
            <p:nvPr/>
          </p:nvSpPr>
          <p:spPr>
            <a:xfrm rot="10084200">
              <a:off x="4893480" y="58507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idate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64"/>
            <p:cNvSpPr/>
            <p:nvPr/>
          </p:nvSpPr>
          <p:spPr>
            <a:xfrm rot="11631000">
              <a:off x="4036320" y="548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caling approa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65"/>
            <p:cNvSpPr/>
            <p:nvPr/>
          </p:nvSpPr>
          <p:spPr>
            <a:xfrm rot="12174000">
              <a:off x="3741480" y="578340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ggregated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66"/>
            <p:cNvSpPr/>
            <p:nvPr/>
          </p:nvSpPr>
          <p:spPr>
            <a:xfrm rot="13439400">
              <a:off x="3100320" y="5020200"/>
              <a:ext cx="138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mplemntation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Chart 123" descr=""/>
          <p:cNvPicPr/>
          <p:nvPr/>
        </p:nvPicPr>
        <p:blipFill>
          <a:blip r:embed="rId2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5" name="Chart 124" descr=""/>
          <p:cNvPicPr/>
          <p:nvPr/>
        </p:nvPicPr>
        <p:blipFill>
          <a:blip r:embed="rId3"/>
          <a:stretch/>
        </p:blipFill>
        <p:spPr>
          <a:xfrm>
            <a:off x="2913120" y="2476440"/>
            <a:ext cx="4309920" cy="3173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EA32-067B-42A7-B6B9-23D9AB421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5"/>
          <p:cNvSpPr/>
          <p:nvPr/>
        </p:nvSpPr>
        <p:spPr>
          <a:xfrm rot="20589600">
            <a:off x="-503280" y="6681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79"/>
          <p:cNvSpPr/>
          <p:nvPr/>
        </p:nvSpPr>
        <p:spPr>
          <a:xfrm>
            <a:off x="3780000" y="30751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80"/>
          <p:cNvSpPr/>
          <p:nvPr/>
        </p:nvSpPr>
        <p:spPr>
          <a:xfrm>
            <a:off x="5032440" y="311940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B63F-A85A-40C2-BA0C-64D90A549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0F81-FB1A-4A1E-BBFA-F905D2D81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6:27Z</dcterms:modified>
  <cp:revision>83</cp:revision>
  <dc:subject/>
  <dc:title>PowerPoint Presentation</dc:title>
</cp:coreProperties>
</file>